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82065-6B25-4253-BF1D-68D22D95C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86F5-4116-4F8B-9806-F2FF18A6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F86A7-F988-432F-A8A0-D3BED13C0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A4CE-F9E5-476B-B789-EBF0215F9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3FF0B-8233-4EAF-81F7-5B04519AF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36FE2-3A81-45EF-B5C7-FD2A271AE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B6337-3AF8-4025-8BC7-66E847A1D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69E87-31ED-4F7A-AF2C-796DE87E1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D055F-7C40-449F-A525-5C3BBC5DD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48B37-F28F-480D-8A34-C6B6C1121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C8CA-4C5D-4CC0-8B36-1BA510934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69C57-10D7-4870-84A9-99FF0F1A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05E63-A5F1-4DD6-8B8C-E1F5221C7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9563-4819-4201-8BEC-3FE7D52F7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33C7A-A7FD-40C4-898F-9CC617F44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1554B-8F82-464B-8019-0248A1131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90C93-5A3A-4717-977D-4B3D48247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25F6E-117F-4611-9EBD-F680578B2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172CD-29D9-4824-A727-95B7143C4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E2A5C-6592-4D9F-97BC-C04E3B4BD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2608F-24F1-4ED0-9B6A-47F245394C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FEE6F-703C-4EB7-9760-937A65212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379E6-EAC8-4FD9-A21F-0414F1C88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3656C-A831-4289-8338-13F310A74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0323B-DD02-46BD-AB84-7D42FAD66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EEC61-018C-4498-B49A-7D8DA1664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CF0DA-1B8C-4435-8ED5-24157D6D6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1DF48-68F2-4913-9041-494427F18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62576-70D4-4420-84CA-4D95302FA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19FDC-C48F-449F-9C1D-ADF8B13DE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70A1CC-ADE3-4F76-9180-CB9BE1EC0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37"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192C7-13C0-4461-9E15-3DD2B99D7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39"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4A386-9EEC-4F5D-8744-5FD59788B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677D-27B5-469F-B336-125CE043C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4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1197F-B4A1-43B7-9FC5-319547116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D7B9F-0A22-45E4-B720-F35A77BE3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95D49-AAB7-4D8E-9C90-D21CF1CEF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4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A120F-D923-4737-B8E2-893EB7007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5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DDDBA-5550-43B5-BE25-661590A62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5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1AD99-792B-487E-8D00-96F728873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58"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A9328-9EE3-4BDC-BD2D-7033FF421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6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56EFD4-3F34-4820-B17D-D655CA7222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66"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79341-DCF0-4B8A-94DC-08C3C98280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1C651-DE84-4DFA-A07B-9D6170A2F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2FE8-DC17-4DA9-8685-F9937ACA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7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E6936-E18A-4B51-B965-C2A8C5861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8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8027CE-031C-4929-9801-45094F879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8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03CBD-1D18-493C-949F-73E1C50C5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1F1FB-C7DA-4658-9620-C87B26E8E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33175-90EE-4B68-ACA7-0239455B5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8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28AD8-FBE2-4CA0-B79E-2F7981053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9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B12A0-1F8F-47A1-AE6E-7BB5DAD22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9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41529-731E-433C-8D87-9D02F9FDA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9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550B2-958C-4D14-8175-4A55E8DEE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0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3E86BB-1C41-4CA7-895D-734488FBC3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DC1D-961A-406B-ABE0-F9E450674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0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0CA01E-7CF6-468E-8B5E-EF4545AB60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8E293E-687B-489E-8E8E-070982B2CA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2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2AFBA-7D68-495B-B484-5729E810F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2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A7E74-4EAA-4D6A-9DB2-E0CAC3736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2E1F1E-2FAB-4927-AC72-D91DE0A9B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EC7E6D-CF3D-4F68-B29F-7B81F3725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DD5BA-4FC3-4FB7-8F32-B1F8D2D35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F564B-1C40-43EE-8C2B-BCCF2ADC3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3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40A31-B1D5-4CC5-882E-D41D93B63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73F55-5809-443D-8522-F7B6ED3D5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ABEB-07DE-4E5E-BBC0-6F3321341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4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E394F-9D34-400A-8EA2-DDCAACCF1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4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CDD76C-E34E-4BBC-8788-DC705DD210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5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A103A0-304C-466D-BA2F-BC3BD7A05C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56C9A-7EA9-49D2-BA7E-4994A680A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454B29-F3A4-4C31-A6BD-D298767CEB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4FC12-F2DD-4731-AD49-EE15AD598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0F2C8-A5D5-4EBD-94F2-2D0B7BDBDD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765CA2-C11D-43F9-BD7A-6738710BE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53C7D-BA4C-47B2-9F26-3818DC749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845FA-AFCA-45D9-B861-E9A9B3606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2C17-6356-4438-82EA-194BEF90D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A0F4F-C620-4C0F-93A2-4B36F6432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3D5FA-BD9D-42AB-A86F-DFA72337C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E0755-14CE-4BD8-8CE2-D44C24EF2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2715B0-FFE5-4931-B7CD-A757C68400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3554BC-2F94-44DF-A681-C6776BE926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B59826-B1AE-49D5-BC23-BB60CF0E8B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D165C5-00F1-4414-A431-AB455F7490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FAE01-914C-406F-82C0-6E5171F2FB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7E2F8-BCC3-47EF-8A62-3589B8B4BC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37ABE-A95A-437C-8744-FA7B27D4A7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30D9-0B0F-44ED-8F36-F731BF594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16E8AE-94BD-4A7C-901E-6E1162B840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FC5D4-F360-4EBD-A773-623D35BB5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B1CE7-9050-402A-A0D2-A723B5A4A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675A9-D803-4A81-B28D-07D1E9950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826C7-B0E0-4222-8E3C-04B8C13C7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AF6350-39E7-4297-BC6C-9DD8A80AC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11E9E3-1FF4-4F21-B8A5-BBE6078078D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61DE-80E7-4E41-AD9C-505D904A861D}" type="datetime">
              <a:rPr b="0" lang="es-AR" sz="1200" spc="-1" strike="noStrike">
                <a:solidFill>
                  <a:srgbClr val="3f3f3f"/>
                </a:solidFill>
                <a:latin typeface="Corbel"/>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1438-9363-46E6-A2C6-A7E638672D16}" type="slidenum">
              <a:rPr b="0" lang="es-AR"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295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5629-2676-41A8-9B1C-36CEF1B6B35F}" type="datetime">
              <a:rPr b="0" lang="es-AR" sz="1200" spc="-1" strike="noStrike">
                <a:solidFill>
                  <a:srgbClr val="ffffff"/>
                </a:solidFill>
                <a:latin typeface="Corbel"/>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506E-823B-4CBB-AD47-68348FEBE09D}" type="slidenum">
              <a:rPr b="0" lang="es-AR"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687A-2854-491B-BFAF-9A91BC5394A0}" type="datetime">
              <a:rPr b="0" lang="es-AR" sz="1200" spc="-1" strike="noStrike">
                <a:solidFill>
                  <a:srgbClr val="3f3f3f"/>
                </a:solidFill>
                <a:latin typeface="Corbel"/>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1AD5-FB11-4572-B17A-CDF4AC47D0F6}" type="slidenum">
              <a:rPr b="0" lang="es-AR"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132"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3"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4496-F1E3-4753-BA41-FF16509EF75A}" type="datetime">
              <a:rPr b="0" lang="es-AR" sz="1200" spc="-1" strike="noStrike">
                <a:solidFill>
                  <a:srgbClr val="ffffff"/>
                </a:solidFill>
                <a:latin typeface="Corbel"/>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829B-4147-449E-A817-A30DC5894AC4}" type="slidenum">
              <a:rPr b="0" lang="es-AR"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17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4"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80CF-C22B-460E-9EDB-5C2D4DF23316}" type="datetime">
              <a:rPr b="0" lang="es-AR" sz="1200" spc="-1" strike="noStrike">
                <a:solidFill>
                  <a:srgbClr val="3f3f3f"/>
                </a:solidFill>
                <a:latin typeface="Corbel"/>
              </a:rPr>
              <a:t>29/07/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7B0F-10BD-4D1A-879A-21ACE3CA8D0C}" type="slidenum">
              <a:rPr b="0" lang="es-AR"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21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9"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B8AD-12A2-4219-870B-F9A562F3397A}" type="datetime">
              <a:rPr b="0" lang="es-AR" sz="1200" spc="-1" strike="noStrike">
                <a:solidFill>
                  <a:srgbClr val="3f3f3f"/>
                </a:solidFill>
                <a:latin typeface="Corbel"/>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C0AF-E91D-4D45-B050-5CD227953388}" type="slidenum">
              <a:rPr b="0" lang="es-AR"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2d1"/>
        </a:solidFill>
      </p:bgPr>
    </p:bg>
    <p:spTree>
      <p:nvGrpSpPr>
        <p:cNvPr id="1" name=""/>
        <p:cNvGrpSpPr/>
        <p:nvPr/>
      </p:nvGrpSpPr>
      <p:grpSpPr>
        <a:xfrm>
          <a:off x="0" y="0"/>
          <a:ext cx="0" cy="0"/>
          <a:chOff x="0" y="0"/>
          <a:chExt cx="0" cy="0"/>
        </a:xfrm>
      </p:grpSpPr>
      <p:sp>
        <p:nvSpPr>
          <p:cNvPr id="258"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8154-0E86-45FF-A6FC-666127B48CEA}" type="datetime">
              <a:rPr b="0" lang="es-AR" sz="1200" spc="-1" strike="noStrike">
                <a:solidFill>
                  <a:srgbClr val="3f3f3f"/>
                </a:solidFill>
                <a:latin typeface="Corbel"/>
              </a:rPr>
              <a:t>29/07/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FB1B-9890-4C05-9702-FAD55FC10E53}" type="slidenum">
              <a:rPr b="0" lang="es-AR"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Corbel"/>
              </a:rPr>
              <a:t>Click to edit the title text format</a:t>
            </a:r>
            <a:endParaRPr b="1" lang="en-US" sz="4500" spc="-1" strike="noStrike">
              <a:solidFill>
                <a:srgbClr val="e8c84c"/>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EE36-C3FC-4F10-83FA-8FB989EAF2C0}" type="datetime">
              <a:rPr b="0" lang="es-AR" sz="1200" spc="-1" strike="noStrike">
                <a:solidFill>
                  <a:srgbClr val="3f3f3f"/>
                </a:solidFill>
                <a:latin typeface="Corbel"/>
              </a:rPr>
              <a:t>29/07/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5"/>
          <p:cNvSpPr>
            <a:spLocks noGrp="1"/>
          </p:cNvSpPr>
          <p:nvPr>
            <p:ph type="sldNum" idx="24"/>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5867-2534-41A8-B7FA-9342623CE0A8}" type="slidenum">
              <a:rPr b="0" lang="es-AR"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b966"/>
        </a:solidFill>
      </p:bgPr>
    </p:bg>
    <p:spTree>
      <p:nvGrpSpPr>
        <p:cNvPr id="1" name=""/>
        <p:cNvGrpSpPr/>
        <p:nvPr/>
      </p:nvGrpSpPr>
      <p:grpSpPr>
        <a:xfrm>
          <a:off x="0" y="0"/>
          <a:ext cx="0" cy="0"/>
          <a:chOff x="0" y="0"/>
          <a:chExt cx="0" cy="0"/>
        </a:xfrm>
      </p:grpSpPr>
      <p:pic>
        <p:nvPicPr>
          <p:cNvPr id="346" name="1 Título" descr=""/>
          <p:cNvPicPr/>
          <p:nvPr/>
        </p:nvPicPr>
        <p:blipFill>
          <a:blip r:embed="rId1"/>
          <a:stretch/>
        </p:blipFill>
        <p:spPr>
          <a:xfrm>
            <a:off x="554040" y="469800"/>
            <a:ext cx="8242200" cy="4321440"/>
          </a:xfrm>
          <a:prstGeom prst="rect">
            <a:avLst/>
          </a:prstGeom>
          <a:ln w="0">
            <a:noFill/>
          </a:ln>
        </p:spPr>
      </p:pic>
      <p:sp>
        <p:nvSpPr>
          <p:cNvPr id="347" name="PlaceHolder 1"/>
          <p:cNvSpPr>
            <a:spLocks noGrp="1"/>
          </p:cNvSpPr>
          <p:nvPr>
            <p:ph type="subTitle"/>
          </p:nvPr>
        </p:nvSpPr>
        <p:spPr>
          <a:xfrm>
            <a:off x="499680" y="5286240"/>
            <a:ext cx="8077320" cy="57168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orbel"/>
              </a:rPr>
              <a:t>HUMBERTO J. BERTAZZA</a:t>
            </a:r>
            <a:endParaRPr b="0" lang="en-US" sz="3200" spc="-1" strike="noStrike">
              <a:solidFill>
                <a:srgbClr val="ffffff"/>
              </a:solidFill>
              <a:latin typeface="Corbel"/>
            </a:endParaRPr>
          </a:p>
        </p:txBody>
      </p:sp>
      <p:sp>
        <p:nvSpPr>
          <p:cNvPr id="348" name="3 CuadroTexto"/>
          <p:cNvSpPr/>
          <p:nvPr/>
        </p:nvSpPr>
        <p:spPr>
          <a:xfrm>
            <a:off x="642960" y="6000840"/>
            <a:ext cx="128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C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9-11-11</a:t>
            </a:r>
            <a:endParaRPr b="0" lang="en-US" sz="1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1 Título" descr=""/>
          <p:cNvPicPr/>
          <p:nvPr/>
        </p:nvPicPr>
        <p:blipFill>
          <a:blip r:embed="rId1"/>
          <a:stretch/>
        </p:blipFill>
        <p:spPr>
          <a:xfrm>
            <a:off x="165240" y="-231840"/>
            <a:ext cx="8845560" cy="1670040"/>
          </a:xfrm>
          <a:prstGeom prst="rect">
            <a:avLst/>
          </a:prstGeom>
          <a:ln w="0">
            <a:noFill/>
          </a:ln>
        </p:spPr>
      </p:pic>
      <p:sp>
        <p:nvSpPr>
          <p:cNvPr id="374" name=""/>
          <p:cNvSpPr txBox="1"/>
          <p:nvPr/>
        </p:nvSpPr>
        <p:spPr>
          <a:xfrm>
            <a:off x="285840" y="1571760"/>
            <a:ext cx="8572320" cy="5286240"/>
          </a:xfrm>
          <a:prstGeom prst="rect">
            <a:avLst/>
          </a:prstGeom>
          <a:noFill/>
          <a:ln w="0">
            <a:noFill/>
          </a:ln>
        </p:spPr>
        <p:txBody>
          <a:bodyPr lIns="54720" tIns="91440" anchor="t">
            <a:normAutofit fontScale="97000"/>
          </a:bodyPr>
          <a:p>
            <a:pPr marL="424800" indent="-30924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Corbel"/>
              </a:rPr>
              <a:t>Dirección Asesoría Legal Impositiva y RSS</a:t>
            </a:r>
            <a:endParaRPr b="0" lang="en-US" sz="2400" spc="-1" strike="noStrike">
              <a:solidFill>
                <a:srgbClr val="000000"/>
              </a:solidFill>
              <a:latin typeface="Corbel"/>
            </a:endParaRPr>
          </a:p>
          <a:p>
            <a:pPr marL="424800" indent="-30924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orbel"/>
              </a:rPr>
              <a:t>El Art. 26 de la ley, establece que </a:t>
            </a:r>
            <a:r>
              <a:rPr b="0" lang="es-ES_tradnl" sz="1800" spc="-1" strike="noStrike">
                <a:solidFill>
                  <a:srgbClr val="000000"/>
                </a:solidFill>
                <a:latin typeface="Corbel"/>
              </a:rPr>
              <a:t>cuando una persona física del exterior tiene la propiedad de bienes en el país en relación a los cuales un tercero entabla algunos de los vínculos que establece la misma, éste en su calidad de responsable sustituto, deberá asumir la obligación tributaria del primero,  ingresando el tributo respectivo.</a:t>
            </a:r>
            <a:endParaRPr b="0" lang="en-US" sz="1800" spc="-1" strike="noStrike">
              <a:solidFill>
                <a:srgbClr val="000000"/>
              </a:solidFill>
              <a:latin typeface="Corbel"/>
            </a:endParaRPr>
          </a:p>
          <a:p>
            <a:pPr marL="424800" indent="-30924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El régimen de sustitución en cuestión no resultará de aplicación, según aclara el propio artículo 26 en su tercer párrafo, a determinados bienes que allí se detallan, y entre los cuales se incluyen algunos que se hallan exentos total o parcialmente conforme el artículo 21 de la mentada ley.</a:t>
            </a:r>
            <a:endParaRPr b="0" lang="en-US" sz="1800" spc="-1" strike="noStrike">
              <a:solidFill>
                <a:srgbClr val="000000"/>
              </a:solidFill>
              <a:latin typeface="Corbel"/>
            </a:endParaRPr>
          </a:p>
          <a:p>
            <a:pPr marL="424800" indent="-30924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Más allá que una interpretación literal del artículo 26 en cuestión conllevaría a colegir que el mismo implica una restricción a la aplicación de las exenciones contempladas por la norma -reservando las mismas a los contribuyentes domiciliados en nuestro país-, este servicio letrado entiende que el esquema implementado debe ser analizado en forma armónica con las restantes disposiciones que regulan el gravamen.</a:t>
            </a:r>
            <a:endParaRPr b="0" lang="en-US" sz="1800" spc="-1" strike="noStrike">
              <a:solidFill>
                <a:srgbClr val="000000"/>
              </a:solidFill>
              <a:latin typeface="Corbel"/>
            </a:endParaRPr>
          </a:p>
          <a:p>
            <a:pPr marL="424800" indent="-30924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Cabe  tener en  cuenta  que  el hecho imponible, en sus aspectos objetivo y subjetivo, se encuentra normado en el Capítulo I del cuerpo legal, mientras que en su capítulo II -en el que se encuentra el régimen que nos ocupa-</a:t>
            </a:r>
            <a:r>
              <a:rPr b="1" i="1" lang="es-ES_tradnl" sz="1800" spc="-1" strike="noStrike">
                <a:solidFill>
                  <a:srgbClr val="000000"/>
                </a:solidFill>
                <a:latin typeface="Corbel"/>
              </a:rPr>
              <a:t> </a:t>
            </a:r>
            <a:r>
              <a:rPr b="0" lang="es-ES_tradnl" sz="1800" spc="-1" strike="noStrike">
                <a:solidFill>
                  <a:srgbClr val="000000"/>
                </a:solidFill>
                <a:latin typeface="Corbel"/>
              </a:rPr>
              <a:t>se regula su aspecto cuantitativo,  es decir la determinación e ingreso del gravamen.</a:t>
            </a:r>
            <a:endParaRPr b="0" lang="en-US" sz="1800" spc="-1" strike="noStrike">
              <a:solidFill>
                <a:srgbClr val="000000"/>
              </a:solidFill>
              <a:latin typeface="Corbel"/>
            </a:endParaRPr>
          </a:p>
        </p:txBody>
      </p:sp>
      <p:sp>
        <p:nvSpPr>
          <p:cNvPr id="375"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8B29-FF98-44BC-A893-2E2C7CDD29BB}"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1 Título" descr=""/>
          <p:cNvPicPr/>
          <p:nvPr/>
        </p:nvPicPr>
        <p:blipFill>
          <a:blip r:embed="rId1"/>
          <a:stretch/>
        </p:blipFill>
        <p:spPr>
          <a:xfrm>
            <a:off x="165240" y="-231840"/>
            <a:ext cx="8845560" cy="1670040"/>
          </a:xfrm>
          <a:prstGeom prst="rect">
            <a:avLst/>
          </a:prstGeom>
          <a:ln w="0">
            <a:noFill/>
          </a:ln>
        </p:spPr>
      </p:pic>
      <p:sp>
        <p:nvSpPr>
          <p:cNvPr id="377" name=""/>
          <p:cNvSpPr txBox="1"/>
          <p:nvPr/>
        </p:nvSpPr>
        <p:spPr>
          <a:xfrm>
            <a:off x="-71640" y="1428840"/>
            <a:ext cx="9072360" cy="5286240"/>
          </a:xfrm>
          <a:prstGeom prst="rect">
            <a:avLst/>
          </a:prstGeom>
          <a:noFill/>
          <a:ln w="0">
            <a:noFill/>
          </a:ln>
        </p:spPr>
        <p:txBody>
          <a:bodyPr lIns="54720" tIns="91440" anchor="t">
            <a:normAutofit fontScale="92000"/>
          </a:bodyPr>
          <a:p>
            <a:pPr marL="402840" indent="-29340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rbel"/>
              </a:rPr>
              <a:t>A partir de ello que el artículo 26 sólo implementa un régimen especial de ingreso del tributo que recae sobre los bienes que poseen contribuyentes domiciliados fuera de las fronteras de nuestro país, designándose un responsable local que sustituye al sujeto pasivo a los fines de asegurar el ingreso del gravamen a las arcas fiscales. Sin embargo, a tales fines, dicho responsable sustituto deberá atender la configuración del hecho imponible -es decir, los elementos patrimoniales que integrarán la base imponible- conforme lo define el Capítulo I.</a:t>
            </a:r>
            <a:endParaRPr b="0" lang="en-US" sz="1900" spc="-1" strike="noStrike">
              <a:solidFill>
                <a:srgbClr val="000000"/>
              </a:solidFill>
              <a:latin typeface="Corbel"/>
            </a:endParaRPr>
          </a:p>
          <a:p>
            <a:pPr marL="402840" indent="-29340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rbel"/>
              </a:rPr>
              <a:t>De este modo, el impuesto que deberá ingresarse de acuerdo a los términos prescriptos por el artículo 26 supra citado, deberá calcularse sobre la base imponible conformada por los bienes enumerados por el artículo 19 del plexo legal, y sin considerar aquellos exonerados del tributo según las disposiciones que contiene el artículo 21 del mismo cuerpo normativo.</a:t>
            </a:r>
            <a:endParaRPr b="0" lang="en-US" sz="1900" spc="-1" strike="noStrike">
              <a:solidFill>
                <a:srgbClr val="000000"/>
              </a:solidFill>
              <a:latin typeface="Corbel"/>
            </a:endParaRPr>
          </a:p>
          <a:p>
            <a:pPr marL="402840" indent="-29340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rbel"/>
              </a:rPr>
              <a:t>El Art. 21 de la ley, al eximir en su inciso h)  a los depósitos efectuados en entidades comprendidas en la Ley N° 21.526, formula tal dispensa de manera objetiva, lo que conduce a su aplicación a todos los contribuyentes, alcanzados por el gravamen con independencia del  lugar en que se encuentra constituido su domicilio, ello atendiendo a la regla exegética que preceptúa que no le cabe al intérprete distinguir donde la norma no distingue.</a:t>
            </a:r>
            <a:endParaRPr b="0" lang="en-US" sz="1900" spc="-1" strike="noStrike">
              <a:solidFill>
                <a:srgbClr val="000000"/>
              </a:solidFill>
              <a:latin typeface="Corbel"/>
            </a:endParaRPr>
          </a:p>
          <a:p>
            <a:pPr marL="402840" indent="-29340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
        <p:nvSpPr>
          <p:cNvPr id="378"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99D7-6A3B-49F4-8067-7C8B11BC89BC}"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1 Título" descr=""/>
          <p:cNvPicPr/>
          <p:nvPr/>
        </p:nvPicPr>
        <p:blipFill>
          <a:blip r:embed="rId1"/>
          <a:stretch/>
        </p:blipFill>
        <p:spPr>
          <a:xfrm>
            <a:off x="165240" y="-231840"/>
            <a:ext cx="8845560" cy="1670040"/>
          </a:xfrm>
          <a:prstGeom prst="rect">
            <a:avLst/>
          </a:prstGeom>
          <a:ln w="0">
            <a:noFill/>
          </a:ln>
        </p:spPr>
      </p:pic>
      <p:sp>
        <p:nvSpPr>
          <p:cNvPr id="380" name=""/>
          <p:cNvSpPr txBox="1"/>
          <p:nvPr/>
        </p:nvSpPr>
        <p:spPr>
          <a:xfrm>
            <a:off x="-71640" y="1428840"/>
            <a:ext cx="9072360" cy="5286240"/>
          </a:xfrm>
          <a:prstGeom prst="rect">
            <a:avLst/>
          </a:prstGeom>
          <a:noFill/>
          <a:ln w="0">
            <a:noFill/>
          </a:ln>
        </p:spPr>
        <p:txBody>
          <a:bodyPr lIns="54720" tIns="91440" anchor="t">
            <a:normAutofit fontScale="93000"/>
          </a:bodyPr>
          <a:p>
            <a:pPr marL="407160" indent="-29628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rbel"/>
              </a:rPr>
              <a:t>A mayor abundamiento, también cabe mencionar que cuando el legislador pretendió impedir el cómputo del mínimo exento previsto por el inciso j) del citado artículo 21 por parte de los no residentes, expresamente introdujo una aclaración en tal sentido mediante la sanción de la Ley N° 26.452.</a:t>
            </a:r>
            <a:endParaRPr b="0" lang="en-US" sz="2200" spc="-1" strike="noStrike">
              <a:solidFill>
                <a:srgbClr val="000000"/>
              </a:solidFill>
              <a:latin typeface="Corbel"/>
            </a:endParaRPr>
          </a:p>
          <a:p>
            <a:pPr marL="407160" indent="-29628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La franquicia bajo análisis resultaría aplicable a los bienes de titularidad de sujetos domiciliados en el extranjero, respecto de los cuales opera el régimen especial de ingreso del gravamen normado en el primer párrafo del artículo 26 de la Ley de Impuesto sobre los Bienes Personales.</a:t>
            </a:r>
            <a:endParaRPr b="0" lang="en-US" sz="2200" spc="-1" strike="noStrike">
              <a:solidFill>
                <a:srgbClr val="000000"/>
              </a:solidFill>
              <a:latin typeface="Corbel"/>
            </a:endParaRPr>
          </a:p>
          <a:p>
            <a:pPr marL="407160" indent="-296280">
              <a:spcBef>
                <a:spcPts val="601"/>
              </a:spcBef>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Los depósitos en moneda nacional o extranjera efectuados en las instituciones comprendidas en la Ley N° 21.526, gozan del beneficio exentivo previsto por el inciso g) del artículo 21 de la ley del tributo, no integrando la base de imposición a los efectos de la determinación del tributo conforme al mecanismo contemplado por el precepto legal antes aludido.</a:t>
            </a:r>
            <a:endParaRPr b="0" lang="en-US" sz="2200" spc="-1" strike="noStrike">
              <a:solidFill>
                <a:srgbClr val="000000"/>
              </a:solidFill>
              <a:latin typeface="Corbel"/>
            </a:endParaRPr>
          </a:p>
        </p:txBody>
      </p:sp>
      <p:sp>
        <p:nvSpPr>
          <p:cNvPr id="381"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5405-117C-493D-99B5-0361E05ECFA6}"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1 Título" descr=""/>
          <p:cNvPicPr/>
          <p:nvPr/>
        </p:nvPicPr>
        <p:blipFill>
          <a:blip r:embed="rId1"/>
          <a:stretch/>
        </p:blipFill>
        <p:spPr>
          <a:xfrm>
            <a:off x="73080" y="79200"/>
            <a:ext cx="8620200" cy="1335240"/>
          </a:xfrm>
          <a:prstGeom prst="rect">
            <a:avLst/>
          </a:prstGeom>
          <a:ln w="0">
            <a:noFill/>
          </a:ln>
        </p:spPr>
      </p:pic>
      <p:sp>
        <p:nvSpPr>
          <p:cNvPr id="383" name=""/>
          <p:cNvSpPr txBox="1"/>
          <p:nvPr/>
        </p:nvSpPr>
        <p:spPr>
          <a:xfrm>
            <a:off x="285840" y="1714320"/>
            <a:ext cx="8229600" cy="4625640"/>
          </a:xfrm>
          <a:prstGeom prst="rect">
            <a:avLst/>
          </a:prstGeom>
          <a:noFill/>
          <a:ln w="0">
            <a:noFill/>
          </a:ln>
        </p:spPr>
        <p:txBody>
          <a:bodyPr lIns="54720" tIns="91440" anchor="t">
            <a:normAutofit/>
          </a:bodyPr>
          <a:p>
            <a:pPr marL="438120" indent="-318960">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rbel"/>
              </a:rPr>
              <a:t>Los depósitos en moneda nacional o extranjera efectuados por un sujeto domiciliado en el exterior en instituciones bancarias del país, gozan del beneficio excentivo de la ley (Art. 21 inc g), no integrando la base de imposición a los efectos de la determinación del tributo.</a:t>
            </a:r>
            <a:endParaRPr b="0" lang="en-US" sz="3600" spc="-1" strike="noStrike">
              <a:solidFill>
                <a:srgbClr val="000000"/>
              </a:solidFill>
              <a:latin typeface="Corbel"/>
            </a:endParaRPr>
          </a:p>
        </p:txBody>
      </p:sp>
      <p:sp>
        <p:nvSpPr>
          <p:cNvPr id="384"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04CC-946E-4D51-90B6-15A0E4381D4A}"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3 Título" descr=""/>
          <p:cNvPicPr/>
          <p:nvPr/>
        </p:nvPicPr>
        <p:blipFill>
          <a:blip r:embed="rId1"/>
          <a:stretch/>
        </p:blipFill>
        <p:spPr>
          <a:xfrm>
            <a:off x="-19080" y="-66600"/>
            <a:ext cx="8712360" cy="148104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625320" indent="-506160">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Corbel"/>
              </a:rPr>
              <a:t>Tratamiento de los depósitos a plazo fijo y en caja de ahorro de un sujeto domiciliado en el exterior en una entidad bancaria del país, en el impuesto sobre los bienes personales.</a:t>
            </a:r>
            <a:endParaRPr b="0" lang="en-US" sz="4000" spc="-1" strike="noStrike">
              <a:solidFill>
                <a:srgbClr val="000000"/>
              </a:solidFill>
              <a:latin typeface="Corbel"/>
            </a:endParaRPr>
          </a:p>
        </p:txBody>
      </p:sp>
      <p:sp>
        <p:nvSpPr>
          <p:cNvPr id="351" name="4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08B0-F026-4ADC-93EF-53B3C6DD2935}"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73080" y="79200"/>
            <a:ext cx="8620200" cy="133524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tIns="91440" anchor="t">
            <a:normAutofit/>
          </a:bodyPr>
          <a:p>
            <a:pPr marL="536400" indent="-417240">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rbel"/>
              </a:rPr>
              <a:t>Son sujetos pasivos del tributo, entre otros, las personas físicas domiciliadas en el exterior y las sucesiones indivisas radicados en el mismo ámbito, respecto de los bienes situados en el país que sean de su propiedad.</a:t>
            </a:r>
            <a:endParaRPr b="0" lang="en-US" sz="3600" spc="-1" strike="noStrike">
              <a:solidFill>
                <a:srgbClr val="000000"/>
              </a:solidFill>
              <a:latin typeface="Corbel"/>
            </a:endParaRPr>
          </a:p>
        </p:txBody>
      </p:sp>
      <p:sp>
        <p:nvSpPr>
          <p:cNvPr id="354"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308B-1996-4BEF-A906-1343E5F58EBF}"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1 Título" descr=""/>
          <p:cNvPicPr/>
          <p:nvPr/>
        </p:nvPicPr>
        <p:blipFill>
          <a:blip r:embed="rId1"/>
          <a:stretch/>
        </p:blipFill>
        <p:spPr>
          <a:xfrm>
            <a:off x="-19080" y="-66600"/>
            <a:ext cx="8712360" cy="1481040"/>
          </a:xfrm>
          <a:prstGeom prst="rect">
            <a:avLst/>
          </a:prstGeom>
          <a:ln w="0">
            <a:noFill/>
          </a:ln>
        </p:spPr>
      </p:pic>
      <p:sp>
        <p:nvSpPr>
          <p:cNvPr id="356"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rbel"/>
              </a:rPr>
              <a:t>Se eximen del impuesto, entre otros, a    ….inc h)</a:t>
            </a:r>
            <a:endParaRPr b="0" lang="en-US" sz="3600" spc="-1" strike="noStrike">
              <a:solidFill>
                <a:srgbClr val="000000"/>
              </a:solidFill>
              <a:latin typeface="Corbel"/>
            </a:endParaRPr>
          </a:p>
          <a:p>
            <a:pPr lvl="1" marL="730080" indent="-272880">
              <a:spcBef>
                <a:spcPts val="799"/>
              </a:spcBef>
              <a:buClr>
                <a:srgbClr val="9cb08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orbel"/>
              </a:rPr>
              <a:t>Los depósitos en moneda argentina y extranjera efectuadas en las instituciones comprendidas en el régimen de la ley 21526, a plazo fijo, en cuenta especial de ahorro o en otras formas de captación de fondos.</a:t>
            </a:r>
            <a:endParaRPr b="0" lang="en-US" sz="3200" spc="-1" strike="noStrike">
              <a:solidFill>
                <a:srgbClr val="000000"/>
              </a:solidFill>
              <a:latin typeface="Corbel"/>
            </a:endParaRPr>
          </a:p>
        </p:txBody>
      </p:sp>
      <p:sp>
        <p:nvSpPr>
          <p:cNvPr id="357"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0640-ACF2-4011-A0E2-BCF7A1AE6F94}"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73080" y="79200"/>
            <a:ext cx="8620200" cy="133524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80000"/>
              </a:lnSpc>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rbel"/>
              </a:rPr>
              <a:t>Los contribuyentes del impuesto a la ganancia minima presunta, las sucesiones indivisas radicadas en el pais y toda otra persona de existencia visible o ideal domiciliacia en el pais que tenga el condominio, posesión, uso, goce disposición, depósito, tenencia, custodia, administración o guarda de bienes sujetos al impuesto que pertenezca a los sujetos mencionados en el inciso b) del articulo 17, deberán ingresar con carácter de pago único y definitivo por los respectivos bienes al 31 de diciembre de cada año el uno con veinticinco centesimos por ciento (1.25%) del valor de dichos bienes determinado con arreglo a las normas de la presente ley</a:t>
            </a:r>
            <a:endParaRPr b="0" lang="en-US" sz="2700" spc="-1" strike="noStrike">
              <a:solidFill>
                <a:srgbClr val="000000"/>
              </a:solidFill>
              <a:latin typeface="Corbel"/>
            </a:endParaRPr>
          </a:p>
        </p:txBody>
      </p:sp>
      <p:sp>
        <p:nvSpPr>
          <p:cNvPr id="360"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950B-7F16-43C9-B752-FFBB97838270}"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1 Título" descr=""/>
          <p:cNvPicPr/>
          <p:nvPr/>
        </p:nvPicPr>
        <p:blipFill>
          <a:blip r:embed="rId1"/>
          <a:stretch/>
        </p:blipFill>
        <p:spPr>
          <a:xfrm>
            <a:off x="23760" y="12600"/>
            <a:ext cx="8669520" cy="1401840"/>
          </a:xfrm>
          <a:prstGeom prst="rect">
            <a:avLst/>
          </a:prstGeom>
          <a:ln w="0">
            <a:noFill/>
          </a:ln>
        </p:spPr>
      </p:pic>
      <p:sp>
        <p:nvSpPr>
          <p:cNvPr id="36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orbel"/>
              </a:rPr>
              <a:t>Régimen de ingreso del impuesto.</a:t>
            </a:r>
            <a:endParaRPr b="0" lang="en-US" sz="4400" spc="-1" strike="noStrike">
              <a:solidFill>
                <a:srgbClr val="000000"/>
              </a:solidFill>
              <a:latin typeface="Corbel"/>
            </a:endParaRPr>
          </a:p>
          <a:p>
            <a:pPr marL="438120" indent="-318960">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orbel"/>
              </a:rPr>
              <a:t>Remite al 1º párrafo del Art. 26 de la ley.</a:t>
            </a:r>
            <a:endParaRPr b="0" lang="en-US" sz="4400" spc="-1" strike="noStrike">
              <a:solidFill>
                <a:srgbClr val="000000"/>
              </a:solidFill>
              <a:latin typeface="Corbel"/>
            </a:endParaRPr>
          </a:p>
        </p:txBody>
      </p:sp>
      <p:sp>
        <p:nvSpPr>
          <p:cNvPr id="363"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AAB2-84E6-4F79-B6C3-611B1EB577D0}"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1 Título" descr=""/>
          <p:cNvPicPr/>
          <p:nvPr/>
        </p:nvPicPr>
        <p:blipFill>
          <a:blip r:embed="rId1"/>
          <a:stretch/>
        </p:blipFill>
        <p:spPr>
          <a:xfrm>
            <a:off x="189000" y="152280"/>
            <a:ext cx="8504280" cy="126216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lnSpc>
                <a:spcPct val="90000"/>
              </a:lnSpc>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División jurídica de la Dirección Regional Palermo y División Jurídica de la Subdirección de Operaciones Impositivas de GCN.</a:t>
            </a:r>
            <a:endParaRPr b="0" lang="en-US" sz="2700" spc="-1" strike="noStrike">
              <a:solidFill>
                <a:srgbClr val="000000"/>
              </a:solidFill>
              <a:latin typeface="Corbel"/>
            </a:endParaRPr>
          </a:p>
          <a:p>
            <a:pPr marL="416160" indent="-302760">
              <a:lnSpc>
                <a:spcPct val="90000"/>
              </a:lnSpc>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El régimen previsto por el Art. 26 de la ley dado su especialidad debe prevalecer sobre las normas del capítulo I (disposiciones generales).</a:t>
            </a:r>
            <a:endParaRPr b="0" lang="en-US" sz="2700" spc="-1" strike="noStrike">
              <a:solidFill>
                <a:srgbClr val="000000"/>
              </a:solidFill>
              <a:latin typeface="Corbel"/>
            </a:endParaRPr>
          </a:p>
          <a:p>
            <a:pPr marL="416160" indent="-302760">
              <a:lnSpc>
                <a:spcPct val="90000"/>
              </a:lnSpc>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Al no estar enunciados los bienes en cuestión (depósitos a plazo fijo y caja de ahorro) en las previsiones del </a:t>
            </a:r>
            <a:r>
              <a:rPr b="0" lang="es-AR" sz="2700" spc="-1" strike="noStrike" u="sng">
                <a:solidFill>
                  <a:srgbClr val="000000"/>
                </a:solidFill>
                <a:uFillTx/>
                <a:latin typeface="Corbel"/>
              </a:rPr>
              <a:t>tercer párrafo</a:t>
            </a:r>
            <a:r>
              <a:rPr b="0" lang="es-AR" sz="2700" spc="-1" strike="noStrike">
                <a:solidFill>
                  <a:srgbClr val="000000"/>
                </a:solidFill>
                <a:latin typeface="Corbel"/>
              </a:rPr>
              <a:t> del Art. 26.</a:t>
            </a:r>
            <a:endParaRPr b="0" lang="en-US" sz="2700" spc="-1" strike="noStrike">
              <a:solidFill>
                <a:srgbClr val="000000"/>
              </a:solidFill>
              <a:latin typeface="Corbel"/>
            </a:endParaRPr>
          </a:p>
          <a:p>
            <a:pPr marL="416160" indent="-302760">
              <a:lnSpc>
                <a:spcPct val="90000"/>
              </a:lnSpc>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Los bienes en cuestión se encuentran alcanzados.</a:t>
            </a:r>
            <a:endParaRPr b="0" lang="en-US" sz="2700" spc="-1" strike="noStrike">
              <a:solidFill>
                <a:srgbClr val="000000"/>
              </a:solidFill>
              <a:latin typeface="Corbel"/>
            </a:endParaRPr>
          </a:p>
          <a:p>
            <a:pPr marL="416160" indent="-302760">
              <a:lnSpc>
                <a:spcPct val="90000"/>
              </a:lnSpc>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Resta determinar quien debió actuar como responsable sustituto.</a:t>
            </a:r>
            <a:endParaRPr b="0" lang="en-US" sz="2700" spc="-1" strike="noStrike">
              <a:solidFill>
                <a:srgbClr val="000000"/>
              </a:solidFill>
              <a:latin typeface="Corbel"/>
            </a:endParaRPr>
          </a:p>
        </p:txBody>
      </p:sp>
      <p:sp>
        <p:nvSpPr>
          <p:cNvPr id="366"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3BBA-39E0-428F-B6B4-B013E8FA0FE7}"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1 Título" descr=""/>
          <p:cNvPicPr/>
          <p:nvPr/>
        </p:nvPicPr>
        <p:blipFill>
          <a:blip r:embed="rId1"/>
          <a:stretch/>
        </p:blipFill>
        <p:spPr>
          <a:xfrm>
            <a:off x="165240" y="-231840"/>
            <a:ext cx="8845560" cy="1670040"/>
          </a:xfrm>
          <a:prstGeom prst="rect">
            <a:avLst/>
          </a:prstGeom>
          <a:ln w="0">
            <a:noFill/>
          </a:ln>
        </p:spPr>
      </p:pic>
      <p:sp>
        <p:nvSpPr>
          <p:cNvPr id="368" name=""/>
          <p:cNvSpPr txBox="1"/>
          <p:nvPr/>
        </p:nvSpPr>
        <p:spPr>
          <a:xfrm>
            <a:off x="285840" y="1571760"/>
            <a:ext cx="8572320" cy="5286240"/>
          </a:xfrm>
          <a:prstGeom prst="rect">
            <a:avLst/>
          </a:prstGeom>
          <a:noFill/>
          <a:ln w="0">
            <a:noFill/>
          </a:ln>
        </p:spPr>
        <p:txBody>
          <a:bodyPr lIns="54720" tIns="91440" anchor="t">
            <a:normAutofit fontScale="95000"/>
          </a:bodyPr>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División determinación de oficio de la subdirección de operaciones impositivas de GCN.</a:t>
            </a:r>
            <a:endParaRPr b="0" lang="en-US" sz="27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Las exenciones previstas en el Art. 21 de la ley forman parte de las “Disposiciones Generales” y resultan de aplicación </a:t>
            </a:r>
            <a:r>
              <a:rPr b="0" lang="es-AR" sz="2700" spc="-1" strike="noStrike" u="sng">
                <a:solidFill>
                  <a:srgbClr val="000000"/>
                </a:solidFill>
                <a:uFillTx/>
                <a:latin typeface="Corbel"/>
              </a:rPr>
              <a:t>tanto para los sujetos del país como del exterior</a:t>
            </a:r>
            <a:r>
              <a:rPr b="0" lang="es-AR" sz="2700" spc="-1" strike="noStrike">
                <a:solidFill>
                  <a:srgbClr val="000000"/>
                </a:solidFill>
                <a:latin typeface="Corbel"/>
              </a:rPr>
              <a:t>.</a:t>
            </a:r>
            <a:endParaRPr b="0" lang="en-US" sz="27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El régimen de liquidación especial (3º párrafo, Art. 26) establece exclusiones para la liquidación del impuesto bajo el régimen de responsable sustituto, </a:t>
            </a:r>
            <a:r>
              <a:rPr b="0" lang="es-AR" sz="2700" spc="-1" strike="noStrike" u="sng">
                <a:solidFill>
                  <a:srgbClr val="000000"/>
                </a:solidFill>
                <a:uFillTx/>
                <a:latin typeface="Corbel"/>
              </a:rPr>
              <a:t>sin interceder para ello en la virtualidad de las exenciones previstas por la ley</a:t>
            </a:r>
            <a:r>
              <a:rPr b="0" lang="es-AR" sz="2700" spc="-1" strike="noStrike">
                <a:solidFill>
                  <a:srgbClr val="000000"/>
                </a:solidFill>
                <a:latin typeface="Corbel"/>
              </a:rPr>
              <a:t>.</a:t>
            </a:r>
            <a:endParaRPr b="0" lang="en-US" sz="27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Corbel"/>
              </a:rPr>
              <a:t>Si el legislador hubiera querido que dicha exención no fuera aplicable a los sujetos del Art. 17, inc b) así lo habría dispuesto expresamente en la normativa exentiva.</a:t>
            </a:r>
            <a:endParaRPr b="0" lang="en-US" sz="2700" spc="-1" strike="noStrike">
              <a:solidFill>
                <a:srgbClr val="000000"/>
              </a:solidFill>
              <a:latin typeface="Corbel"/>
            </a:endParaRPr>
          </a:p>
        </p:txBody>
      </p:sp>
      <p:sp>
        <p:nvSpPr>
          <p:cNvPr id="369"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CC62-B37F-4BB7-8EAA-8CBED75B17D2}"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165240" y="-231840"/>
            <a:ext cx="8845560" cy="1670040"/>
          </a:xfrm>
          <a:prstGeom prst="rect">
            <a:avLst/>
          </a:prstGeom>
          <a:ln w="0">
            <a:noFill/>
          </a:ln>
        </p:spPr>
      </p:pic>
      <p:sp>
        <p:nvSpPr>
          <p:cNvPr id="371" name=""/>
          <p:cNvSpPr txBox="1"/>
          <p:nvPr/>
        </p:nvSpPr>
        <p:spPr>
          <a:xfrm>
            <a:off x="285840" y="1571760"/>
            <a:ext cx="8572320" cy="5286240"/>
          </a:xfrm>
          <a:prstGeom prst="rect">
            <a:avLst/>
          </a:prstGeom>
          <a:noFill/>
          <a:ln w="0">
            <a:noFill/>
          </a:ln>
        </p:spPr>
        <p:txBody>
          <a:bodyPr lIns="54720" tIns="91440" anchor="t">
            <a:normAutofit fontScale="95000"/>
          </a:bodyPr>
          <a:p>
            <a:pPr marL="416160" indent="-30276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Corbel"/>
              </a:rPr>
              <a:t>Dirección de Asesoría Técnica</a:t>
            </a:r>
            <a:endParaRPr b="0" lang="en-US" sz="28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El Art. 26 de la ley tuvo por fin establecer la modalidad del ingreso del gravamen para los sujetos residentes en el exterior.</a:t>
            </a:r>
            <a:endParaRPr b="0" lang="en-US" sz="22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El impuesto debe ingresarse por los sujetos indicados sobre los </a:t>
            </a:r>
            <a:r>
              <a:rPr b="0" lang="es-AR" sz="2200" spc="-1" strike="noStrike" u="sng">
                <a:solidFill>
                  <a:srgbClr val="000000"/>
                </a:solidFill>
                <a:uFillTx/>
                <a:latin typeface="Corbel"/>
              </a:rPr>
              <a:t>bienes sujetos al impuesto</a:t>
            </a:r>
            <a:r>
              <a:rPr b="0" lang="es-AR" sz="2200" spc="-1" strike="noStrike">
                <a:solidFill>
                  <a:srgbClr val="000000"/>
                </a:solidFill>
                <a:latin typeface="Corbel"/>
              </a:rPr>
              <a:t>, ubicados en el país de propiedad de residentes del exterior.</a:t>
            </a:r>
            <a:endParaRPr b="0" lang="en-US" sz="22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Se excluye el gravamen para dichos sujetos los bienes exentos.</a:t>
            </a:r>
            <a:endParaRPr b="0" lang="en-US" sz="22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Actuación Nº 204/11 (DI ATEC) conformada por Notas Nº 715/11 (DI ATEC) y 1025/11 (DI ATEC).</a:t>
            </a:r>
            <a:endParaRPr b="0" lang="en-US" sz="2200" spc="-1" strike="noStrike">
              <a:solidFill>
                <a:srgbClr val="000000"/>
              </a:solidFill>
              <a:latin typeface="Corbel"/>
            </a:endParaRPr>
          </a:p>
          <a:p>
            <a:pPr marL="416160" indent="-302760">
              <a:lnSpc>
                <a:spcPct val="80000"/>
              </a:lnSpc>
              <a:spcBef>
                <a:spcPts val="601"/>
              </a:spcBef>
              <a:spcAft>
                <a:spcPts val="601"/>
              </a:spcAft>
              <a:buClr>
                <a:srgbClr val="ceb966"/>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Corbel"/>
              </a:rPr>
              <a:t>La exención contemplada por el Art. 21, inc h, (depósitos efectuados en instituciones financieras) configura una exención objetiva de la que </a:t>
            </a:r>
            <a:r>
              <a:rPr b="0" lang="es-AR" sz="2200" spc="-1" strike="noStrike" u="sng">
                <a:solidFill>
                  <a:srgbClr val="000000"/>
                </a:solidFill>
                <a:uFillTx/>
                <a:latin typeface="Corbel"/>
              </a:rPr>
              <a:t>gozan todos los sujetos del gravamen</a:t>
            </a:r>
            <a:r>
              <a:rPr b="0" lang="es-AR" sz="2200" spc="-1" strike="noStrike">
                <a:solidFill>
                  <a:srgbClr val="000000"/>
                </a:solidFill>
                <a:latin typeface="Corbel"/>
              </a:rPr>
              <a:t>, sin que la misma resulte desvirtuada para los sujetos residentes en el exterior en virtud de la normativa del Art. 26 de la ley respecto del régimen de responsabilidad sustitutiva.</a:t>
            </a:r>
            <a:endParaRPr b="0" lang="en-US" sz="2200" spc="-1" strike="noStrike">
              <a:solidFill>
                <a:srgbClr val="000000"/>
              </a:solidFill>
              <a:latin typeface="Corbel"/>
            </a:endParaRPr>
          </a:p>
        </p:txBody>
      </p:sp>
      <p:sp>
        <p:nvSpPr>
          <p:cNvPr id="372" name="3 Marcador de número de diapositiva"/>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F344-CF31-4C36-AC28-B2DD32CF1181}" type="slidenum">
              <a:rPr b="0" lang="es-AR"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19:27:35Z</dcterms:created>
  <dc:creator>Nancy</dc:creator>
  <dc:description/>
  <dc:language>en-US</dc:language>
  <cp:lastModifiedBy>Nancy</cp:lastModifiedBy>
  <dcterms:modified xsi:type="dcterms:W3CDTF">2011-11-08T13:53:16Z</dcterms:modified>
  <cp:revision>18</cp:revision>
  <dc:subject/>
  <dc:title>LOS DEPÓSITOS FINANCIEROS DE LOS SUJETOS DEL EX</dc:title>
</cp:coreProperties>
</file>